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669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2588-7246-425A-A30B-E8B06C864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FCF9-874B-4167-B963-EB56D88B4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F428-022F-4B1D-B276-5CFB26282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F78F-ECC0-4B20-9649-D49B29F2E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8C4E0-8A20-42D4-903C-B1E37496C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6C67D-676C-4C0C-A979-58F5052BE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FDB33-3F4E-4DAA-BD20-2B2CD12F0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0470C-C835-4481-BA36-F82548767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E8C5F-6616-4DFD-B66F-1382908FC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DCDBF-D2A9-4FAB-BF15-9F9F9A2F1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B6434-4146-467A-A49A-84F2E9EFB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79F1-C99B-4ECA-89E0-AAE41D9A6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0E549-D265-4489-99FC-6B4F9FC6E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17632-412A-4C2C-BE26-BA94B00EA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81509-7950-4245-8D93-F0B8B474C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372C2-D3C5-4361-BF73-E691F8101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DA57A-9D93-41B6-A031-42727FF16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98B0-F27E-4870-A8E0-62B38298E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B896-5E78-49D1-83B4-31BFDA7CC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7863-1C70-4230-881A-D1BFDD669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6AE7-08FA-4FBE-B749-AA8C0330F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BEA9-131F-4247-94E9-3EB57750A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4D89-6F2F-4A8D-8EF0-86E4570DC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6C9E-B7A5-485A-8867-1278423C5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40333-666E-4436-95AE-94C035EC2E5E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1DFC8-BFFF-459C-91E8-2645A9674470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anne William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JEB Principles of Teaching &amp; Training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B228E-63EA-4A08-BF0C-B659A28D2851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EARNING BY RO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SCOVERY LEARN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KILL ACQUISI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EPT FORM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6FBF-8D19-4C89-9EC9-4CC906DAF74A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Students learn by repeating facts or activities in a parrot like fashi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The alphabe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Spelling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Multiplication table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Der, Die, Das, Den, Die, Da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5C30-E218-482C-ACDC-6D6B4849B6ED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o be effective rote learning must be accompanied by some logic and/or other knowledg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8620-ADFA-4739-A86B-CA25D76F2B1A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KILL ACQUISI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udents learn how to do something - to have the capacity or competence to perform a task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DUCT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CESS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9997-030F-4BDB-986E-15B0D3BEE5A3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EPT FORM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udents form concepts through experience - objects, events or ideas that have properties, essential qualities or relationships in common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RETE – book, shape, colour, flow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BSTRACT – poverty, justice, beauty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BE55-E51B-450C-BB74-1E6D923395F2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am told and I forge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see and I rememb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do and I understan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aeaea"/>
                </a:solidFill>
                <a:latin typeface="Arial"/>
              </a:rPr>
              <a:t>Chinese proverb.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4E18-35B6-4501-BECD-35B48EDB4FFE}" type="slidenum">
              <a:t>7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08:11:09Z</dcterms:created>
  <dc:creator/>
  <dc:description/>
  <dc:language>en-US</dc:language>
  <cp:lastModifiedBy>Dianne Williams</cp:lastModifiedBy>
  <dcterms:modified xsi:type="dcterms:W3CDTF">2000-04-28T11:45:53Z</dcterms:modified>
  <cp:revision>21</cp:revision>
  <dc:subject/>
  <dc:title/>
</cp:coreProperties>
</file>